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7.jpeg" ContentType="image/jpeg"/>
  <Override PartName="/ppt/media/image6.jpeg" ContentType="image/jpe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AC59-4300-4AC3-85FC-4EF5BE244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5B45-32BA-4F0E-8E01-7BFDF6668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A460-04FE-41DC-BDAE-D1354D29B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7D29-8051-41EC-BB89-C7AC85F36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129D-28EC-4C82-A788-EA713041B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CB74-CAAE-4985-A579-4FA29E659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09F3-F20A-476D-94B8-CB3AC5207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2680-EC26-4154-B1CB-10BECF3A2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4FC3-DA98-4EEB-A928-F49CC9B81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E31E-EE3D-4EBC-BFEE-AA9332BA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E919-93F0-40C6-90C6-19F11016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8FB5-B1A5-4EA2-A473-8EBB8A11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8E10C-FC78-4EB3-AB5D-E769261DC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hyperlink" Target="http://www.50states.com/delaware" TargetMode="Externa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hyperlink" Target="http://bensguide.gpo.gov/3-5/state/delaware.html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postcardsfrom.com/t1/000110.html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523880" y="228600"/>
            <a:ext cx="6324840" cy="329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Delaware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6781680" y="5562720"/>
            <a:ext cx="23623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l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/20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number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219320" y="3962520"/>
            <a:ext cx="617400" cy="1668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5562720" y="3733920"/>
            <a:ext cx="1549440" cy="1828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143000" y="60879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p a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43800" y="43354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바탕"/>
              </a:rPr>
              <a:t>Clip 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4191120" y="4572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85800" y="380880"/>
            <a:ext cx="31240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States,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elaware So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0/7/2010,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50states.com/dela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" dur="2000" fill="hold"/>
                                        <p:tgtEl>
                                          <p:spTgt spid="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0492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Name Dela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tal Do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 783,6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ed the union December 1787 4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to Liberty and Indepen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kname Diamond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wer Peach Bloss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rd Blue Hen Chic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ng Our Dela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 Behind Name For Thomas West Lord de la wa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705720" y="2743200"/>
            <a:ext cx="1598400" cy="1824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705720" y="48690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81680" y="2286000"/>
            <a:ext cx="205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486400" y="4114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is a cool bi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Delaware: Map and State Flag"/>
          <p:cNvPicPr/>
          <p:nvPr/>
        </p:nvPicPr>
        <p:blipFill>
          <a:blip r:embed="rId1"/>
          <a:srcRect l="0" t="34096" r="0" b="0"/>
          <a:stretch/>
        </p:blipFill>
        <p:spPr>
          <a:xfrm>
            <a:off x="2971800" y="1066680"/>
            <a:ext cx="2114640" cy="2210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Delaware: Map and State Flag"/>
          <p:cNvPicPr/>
          <p:nvPr/>
        </p:nvPicPr>
        <p:blipFill>
          <a:blip r:embed="rId2"/>
          <a:srcRect l="0" t="0" r="0" b="61379"/>
          <a:stretch/>
        </p:blipFill>
        <p:spPr>
          <a:xfrm>
            <a:off x="5562720" y="1523880"/>
            <a:ext cx="2114280" cy="1295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200400" y="5294160"/>
            <a:ext cx="3352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95280" y="4191120"/>
            <a:ext cx="7086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s Guide to U.S. to U.S. Government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Quick Facts Delawa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9/22/10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bensguide.gpo.gov/3-5/state/delawar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9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All images Copyright © 1997 - 2000 WriteLine. All Rights Reserved."/>
          <p:cNvPicPr/>
          <p:nvPr/>
        </p:nvPicPr>
        <p:blipFill>
          <a:blip r:embed="rId1"/>
          <a:stretch/>
        </p:blipFill>
        <p:spPr>
          <a:xfrm>
            <a:off x="380880" y="357120"/>
            <a:ext cx="7010640" cy="50277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676520" y="5791320"/>
            <a:ext cx="6324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cards From America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ickson Plantation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/23/20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ostcardsfrom.com/t1/000110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47920" y="12952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nice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5000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7543800" cy="4524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066680" y="60156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52480" y="56386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aware state nickname is the diamond st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3:21:41Z</dcterms:created>
  <dc:creator>install</dc:creator>
  <dc:description/>
  <dc:language>en-US</dc:language>
  <cp:lastModifiedBy>install</cp:lastModifiedBy>
  <dcterms:modified xsi:type="dcterms:W3CDTF">2010-10-14T13:19:47Z</dcterms:modified>
  <cp:revision>15</cp:revision>
  <dc:subject/>
  <dc:title>Slide 1</dc:title>
</cp:coreProperties>
</file>